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TextBox 5" descr=""/>
          <p:cNvPicPr/>
          <p:nvPr/>
        </p:nvPicPr>
        <p:blipFill>
          <a:blip r:embed="rId1"/>
          <a:stretch/>
        </p:blipFill>
        <p:spPr>
          <a:xfrm>
            <a:off x="647640" y="1419120"/>
            <a:ext cx="7848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>
            <a:off x="755640" y="1376280"/>
            <a:ext cx="1608120" cy="2087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"/>
          <p:cNvSpPr/>
          <p:nvPr/>
        </p:nvSpPr>
        <p:spPr>
          <a:xfrm>
            <a:off x="2556000" y="1405080"/>
            <a:ext cx="5629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我们也许还会碰到形形色色的人和各种各样的问题。这时我们又该怎样自如应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971640" y="1414440"/>
            <a:ext cx="7272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4c4d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服妈妈，让她同意你在家里养一只小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服同学，在班里设立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生物角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服校长，在学校组织一次义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"/>
          <p:cNvSpPr/>
          <p:nvPr/>
        </p:nvSpPr>
        <p:spPr>
          <a:xfrm>
            <a:off x="1041480" y="3003480"/>
            <a:ext cx="7061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自由讨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方可能会有哪些担心？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又打算如何打消对方的疑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2"/>
          <p:cNvSpPr/>
          <p:nvPr/>
        </p:nvSpPr>
        <p:spPr>
          <a:xfrm>
            <a:off x="299880" y="588960"/>
            <a:ext cx="85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下面的任务中选择一个，试着说服别人支持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1"/>
          <p:cNvSpPr/>
          <p:nvPr/>
        </p:nvSpPr>
        <p:spPr>
          <a:xfrm>
            <a:off x="1120680" y="484200"/>
            <a:ext cx="69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服妈妈，让她同意你在家里养一只小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826920" y="1276200"/>
            <a:ext cx="74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会耽误学习，养小狗能培养自己热爱观察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会得狂犬病，会定期打疫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会让家里乱糟糟的，会及时处理好小狗的排泄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狗很可爱，能给家庭带来新的活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1"/>
          <p:cNvSpPr/>
          <p:nvPr/>
        </p:nvSpPr>
        <p:spPr>
          <a:xfrm>
            <a:off x="2681280" y="700200"/>
            <a:ext cx="37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服同学，在班里设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物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"/>
          <p:cNvSpPr/>
          <p:nvPr/>
        </p:nvSpPr>
        <p:spPr>
          <a:xfrm>
            <a:off x="1042920" y="1449360"/>
            <a:ext cx="70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通过“生物角”观察植物成长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培养我们热爱大自然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净化教室里的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可以改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1"/>
          <p:cNvSpPr/>
          <p:nvPr/>
        </p:nvSpPr>
        <p:spPr>
          <a:xfrm>
            <a:off x="4130280" y="6271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服校长，在学校组织一次义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2"/>
          <p:cNvSpPr/>
          <p:nvPr/>
        </p:nvSpPr>
        <p:spPr>
          <a:xfrm>
            <a:off x="1332000" y="1449360"/>
            <a:ext cx="64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义卖，可以处理自己的玩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义卖，可以培养理财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义卖，可以帮助困难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通过义卖，可以提高自己的社交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1"/>
          <p:cNvSpPr/>
          <p:nvPr/>
        </p:nvSpPr>
        <p:spPr>
          <a:xfrm>
            <a:off x="1008000" y="1563840"/>
            <a:ext cx="7128000" cy="52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妈妈和校长都是长辈，因此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谦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要尊敬对方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妈妈更亲近，而校长则相对陌生，亲疏有别，语气上要有所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2"/>
          <p:cNvSpPr/>
          <p:nvPr/>
        </p:nvSpPr>
        <p:spPr>
          <a:xfrm>
            <a:off x="1079640" y="4842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为对象身份不同，我们在交流时的态度和情绪也要有所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6"/>
          <p:cNvSpPr/>
          <p:nvPr/>
        </p:nvSpPr>
        <p:spPr>
          <a:xfrm>
            <a:off x="1079640" y="3076560"/>
            <a:ext cx="6984720" cy="520560"/>
          </a:xfrm>
          <a:prstGeom prst="rect">
            <a:avLst/>
          </a:prstGeom>
          <a:solidFill>
            <a:srgbClr val="f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学是同龄人，没有年龄或辈分之差。所以我们在寻求支持时，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诚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也要直截了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Box 8"/>
          <p:cNvSpPr/>
          <p:nvPr/>
        </p:nvSpPr>
        <p:spPr>
          <a:xfrm>
            <a:off x="798480" y="1547640"/>
            <a:ext cx="7726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一个你最有把握的任务，同桌之间进行角色扮演，能态度诚恳、语言得体、理由充分地相互寻求支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"/>
          <p:cNvSpPr/>
          <p:nvPr/>
        </p:nvSpPr>
        <p:spPr>
          <a:xfrm>
            <a:off x="3456000" y="684360"/>
            <a:ext cx="2232000" cy="642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演一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C:\Users\Administrator\Desktop\timg.jpg"/>
          <p:cNvPicPr/>
          <p:nvPr/>
        </p:nvPicPr>
        <p:blipFill>
          <a:blip r:embed="rId1"/>
          <a:srcRect l="0" t="0" r="0" b="6161"/>
          <a:stretch/>
        </p:blipFill>
        <p:spPr>
          <a:xfrm>
            <a:off x="4716360" y="915840"/>
            <a:ext cx="4102200" cy="3854520"/>
          </a:xfrm>
          <a:prstGeom prst="rect">
            <a:avLst/>
          </a:prstGeom>
          <a:ln w="0">
            <a:noFill/>
          </a:ln>
        </p:spPr>
      </p:pic>
      <p:pic>
        <p:nvPicPr>
          <p:cNvPr id="725" name="TextBox 48" descr=""/>
          <p:cNvPicPr/>
          <p:nvPr/>
        </p:nvPicPr>
        <p:blipFill>
          <a:blip r:embed="rId2"/>
          <a:stretch/>
        </p:blipFill>
        <p:spPr>
          <a:xfrm>
            <a:off x="1538280" y="1265400"/>
            <a:ext cx="3503520" cy="871200"/>
          </a:xfrm>
          <a:prstGeom prst="rect">
            <a:avLst/>
          </a:prstGeom>
          <a:ln w="0">
            <a:noFill/>
          </a:ln>
        </p:spPr>
      </p:pic>
      <p:sp>
        <p:nvSpPr>
          <p:cNvPr id="726" name="矩形 8"/>
          <p:cNvSpPr/>
          <p:nvPr/>
        </p:nvSpPr>
        <p:spPr>
          <a:xfrm flipH="1">
            <a:off x="0" y="123840"/>
            <a:ext cx="4067280" cy="26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"/>
          <p:cNvSpPr/>
          <p:nvPr/>
        </p:nvSpPr>
        <p:spPr>
          <a:xfrm>
            <a:off x="352800" y="11124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圆角矩形 12"/>
          <p:cNvSpPr/>
          <p:nvPr/>
        </p:nvSpPr>
        <p:spPr>
          <a:xfrm>
            <a:off x="179280" y="4842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口语交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"/>
          <p:cNvPicPr/>
          <p:nvPr/>
        </p:nvPicPr>
        <p:blipFill>
          <a:blip r:embed="rId1">
            <a:lum contrast="6000"/>
          </a:blip>
          <a:srcRect l="50408" t="0" r="0" b="0"/>
          <a:stretch/>
        </p:blipFill>
        <p:spPr>
          <a:xfrm>
            <a:off x="395280" y="1779480"/>
            <a:ext cx="1488960" cy="2266920"/>
          </a:xfrm>
          <a:prstGeom prst="rect">
            <a:avLst/>
          </a:prstGeom>
          <a:ln w="0">
            <a:noFill/>
          </a:ln>
        </p:spPr>
      </p:pic>
      <p:sp>
        <p:nvSpPr>
          <p:cNvPr id="730" name="矩形 3"/>
          <p:cNvSpPr/>
          <p:nvPr/>
        </p:nvSpPr>
        <p:spPr>
          <a:xfrm>
            <a:off x="2124000" y="84312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如现在你要去找老师，希望他同意你办一份报纸并提供必要的帮助。想一想，应该怎么跟老师交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1"/>
          <p:cNvSpPr/>
          <p:nvPr/>
        </p:nvSpPr>
        <p:spPr>
          <a:xfrm>
            <a:off x="2843280" y="1058760"/>
            <a:ext cx="547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寻求支持需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以理服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以情动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这就要一步步把话说好，从而获得支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" descr=""/>
          <p:cNvPicPr/>
          <p:nvPr/>
        </p:nvPicPr>
        <p:blipFill>
          <a:blip r:embed="rId1"/>
          <a:stretch/>
        </p:blipFill>
        <p:spPr>
          <a:xfrm>
            <a:off x="755640" y="1635120"/>
            <a:ext cx="187164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文本框 2"/>
          <p:cNvSpPr/>
          <p:nvPr/>
        </p:nvSpPr>
        <p:spPr>
          <a:xfrm>
            <a:off x="792000" y="55548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两位同学向老师寻求支持时说的话，你觉得哪一位能得到老师的支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"/>
          <p:cNvSpPr/>
          <p:nvPr/>
        </p:nvSpPr>
        <p:spPr>
          <a:xfrm>
            <a:off x="1001880" y="1995480"/>
            <a:ext cx="7140240" cy="73368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学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张老师，我想办一份报纸。我的想法是将班级每周大事，还有同学的佳作，都编入这份报纸中。我一定能办好报纸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2"/>
          <p:cNvSpPr/>
          <p:nvPr/>
        </p:nvSpPr>
        <p:spPr>
          <a:xfrm>
            <a:off x="611280" y="531720"/>
            <a:ext cx="7921440" cy="971640"/>
          </a:xfrm>
          <a:prstGeom prst="rect">
            <a:avLst/>
          </a:prstGeom>
          <a:noFill/>
          <a:ln w="9360">
            <a:solidFill>
              <a:srgbClr val="8f8c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同学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张老师您好，您能抽五分钟听听我的看法吗？是这样的，我想办一份报纸。我的想法是将班级每周大事，还有同学们的佳作，都编入这份报纸中。通过办报，不仅能给大家留下关于班级的美好回忆，还能提高大家看新闻的能力，更能提升同学们的习作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相信自己一定能办好报纸，而且绝对不会占用我学习的时间。至于办报的经费问题，我也仔细思考过，尽量由编辑部自行打字，简单设计版面然后复印，成本低廉，只需要占用一点点班费就够了。请您支持我，谢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2"/>
          <p:cNvSpPr/>
          <p:nvPr/>
        </p:nvSpPr>
        <p:spPr>
          <a:xfrm>
            <a:off x="3360240" y="690480"/>
            <a:ext cx="24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组合 6"/>
          <p:cNvGrpSpPr/>
          <p:nvPr/>
        </p:nvGrpSpPr>
        <p:grpSpPr>
          <a:xfrm>
            <a:off x="2087640" y="1670040"/>
            <a:ext cx="4968720" cy="647640"/>
            <a:chOff x="2087640" y="1670040"/>
            <a:chExt cx="4968720" cy="647640"/>
          </a:xfrm>
        </p:grpSpPr>
        <p:pic>
          <p:nvPicPr>
            <p:cNvPr id="738" name="图片 4" descr=""/>
            <p:cNvPicPr/>
            <p:nvPr/>
          </p:nvPicPr>
          <p:blipFill>
            <a:blip r:embed="rId1"/>
            <a:stretch/>
          </p:blipFill>
          <p:spPr>
            <a:xfrm>
              <a:off x="2087640" y="1670040"/>
              <a:ext cx="4968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文本框 5"/>
            <p:cNvSpPr/>
            <p:nvPr/>
          </p:nvSpPr>
          <p:spPr>
            <a:xfrm>
              <a:off x="3216600" y="173232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态度生硬，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B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态度和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组合 7"/>
          <p:cNvGrpSpPr/>
          <p:nvPr/>
        </p:nvGrpSpPr>
        <p:grpSpPr>
          <a:xfrm>
            <a:off x="1908000" y="2660760"/>
            <a:ext cx="5328000" cy="647640"/>
            <a:chOff x="1908000" y="2660760"/>
            <a:chExt cx="5328000" cy="647640"/>
          </a:xfrm>
        </p:grpSpPr>
        <p:pic>
          <p:nvPicPr>
            <p:cNvPr id="741" name="图片 8" descr=""/>
            <p:cNvPicPr/>
            <p:nvPr/>
          </p:nvPicPr>
          <p:blipFill>
            <a:blip r:embed="rId2"/>
            <a:stretch/>
          </p:blipFill>
          <p:spPr>
            <a:xfrm>
              <a:off x="1908000" y="2660760"/>
              <a:ext cx="5328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文本框 9"/>
            <p:cNvSpPr/>
            <p:nvPr/>
          </p:nvSpPr>
          <p:spPr>
            <a:xfrm>
              <a:off x="3090240" y="2723040"/>
              <a:ext cx="32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理由不充分，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B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理由充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10"/>
          <p:cNvGrpSpPr/>
          <p:nvPr/>
        </p:nvGrpSpPr>
        <p:grpSpPr>
          <a:xfrm>
            <a:off x="2087640" y="3651120"/>
            <a:ext cx="4968720" cy="649440"/>
            <a:chOff x="2087640" y="3651120"/>
            <a:chExt cx="4968720" cy="649440"/>
          </a:xfrm>
        </p:grpSpPr>
        <p:pic>
          <p:nvPicPr>
            <p:cNvPr id="744" name="图片 11" descr=""/>
            <p:cNvPicPr/>
            <p:nvPr/>
          </p:nvPicPr>
          <p:blipFill>
            <a:blip r:embed="rId3"/>
            <a:stretch/>
          </p:blipFill>
          <p:spPr>
            <a:xfrm>
              <a:off x="2087640" y="3651120"/>
              <a:ext cx="496872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文本框 12"/>
            <p:cNvSpPr/>
            <p:nvPr/>
          </p:nvSpPr>
          <p:spPr>
            <a:xfrm>
              <a:off x="4117320" y="3713400"/>
              <a:ext cx="6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B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能打消老师的疑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矩形 3"/>
          <p:cNvSpPr/>
          <p:nvPr/>
        </p:nvSpPr>
        <p:spPr>
          <a:xfrm>
            <a:off x="684360" y="1120680"/>
            <a:ext cx="8016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礼貌诚恳地说明来意。如：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请问您现在有时间吗？我想和您谈一件事情。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把办报纸的设想讲清楚，尤其是办报的目的，以及可能给同学带来的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设想老师可能的担心，想办法打消老师的疑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1"/>
          <p:cNvSpPr/>
          <p:nvPr/>
        </p:nvSpPr>
        <p:spPr>
          <a:xfrm>
            <a:off x="1187280" y="428760"/>
            <a:ext cx="676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起来讨论：寻求支持有什么注意事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矩形 2"/>
          <p:cNvSpPr/>
          <p:nvPr/>
        </p:nvSpPr>
        <p:spPr>
          <a:xfrm>
            <a:off x="1028880" y="627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照说话要点，再次练习说服张老师同意自己办报纸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"/>
          <p:cNvSpPr/>
          <p:nvPr/>
        </p:nvSpPr>
        <p:spPr>
          <a:xfrm>
            <a:off x="3132000" y="1851120"/>
            <a:ext cx="3005280" cy="26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态度诚恳又有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理由充分又完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设想周道又稳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语言得体又清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5"/>
          <p:cNvSpPr/>
          <p:nvPr/>
        </p:nvSpPr>
        <p:spPr>
          <a:xfrm>
            <a:off x="2130840" y="1924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8:47:05Z</dcterms:modified>
  <cp:revision>103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